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74CD-61A2-4C1B-BEC4-ABFA6722C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49BF-B04F-4DAE-A1B0-C270F801524D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25D1-472C-4D9D-AF41-D43998AAFB58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B65C-AECF-4401-A3CC-CD2701BEB7BE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1B36-2EBA-41A3-B220-7A55C9DDBD64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F0CB-9D61-4364-9C38-402757C61055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874D-2349-404F-990C-28D2E222FC79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4AC4-EA9B-41B6-821A-589761A46D13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9003-A6A1-4C77-AF3B-0ECA6A0E145A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D319-A170-49CE-BDAC-9E08C5049912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6B93-73CE-482E-A236-A8CA464779AA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B289-F9FC-4B57-97A6-19022925D5A6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FD44-A0BB-4BFF-87C6-81D9BFCAE6AE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7AE1-3085-4B52-A08F-C9A3E010B647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061E-157B-4C22-A639-7B056ABA2C1A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A3F5-CD98-4328-9DCD-60C6B4015E07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4E76-7275-4ACE-AE8A-7E16F71A564F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9303-A0CC-49BE-B75F-8089D8E62845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2331-BC58-4D7B-91EC-0B2C71234D23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58DA-20A8-4C04-AB07-7E3FDB21E0D2}" type="slidenum">
              <a:rPr b="0" lang="en-US" sz="1200" spc="-1" strike="noStrike">
                <a:solidFill>
                  <a:srgbClr val="272776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E654-BAE0-4008-BF8C-232A55CAA696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088B-6DE0-44E0-861D-2EA48A7B0912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8F53-2AF0-40D8-9267-8AC2543D55E8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79C9-793C-42FD-B9A0-944BB8ACDDAD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971-1F4C-4D30-B000-A3F52C47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C955-367A-414D-84C0-9B891E2C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61E-4191-440B-A2C5-6129A741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6A44-6CE6-4BA2-8799-5EFAC937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0686-857F-4421-9A51-1298584A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A4F7-9323-49A0-B74A-9F7D9756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F6AC-0917-404A-A23E-75EEBEEF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2E7C-3E4C-4F2D-BAB7-458016CD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2C8C-8267-4D38-A502-95938E8F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8F32-E96E-490A-B565-E9C86924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12E0-1FDA-4B79-92BF-4D8E73CB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426-58EA-4743-AF91-4AD74F27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CF26-60F9-4F1F-93DB-796B190F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6CBC-63E2-42F0-8955-B1A79763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FE09-3C4D-4BE3-BE6F-3E4E271D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BCCC-D131-47F5-9FE0-C7A1B8DA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0919-C6C6-4633-A179-26BD4506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BAC-EB08-48F2-8575-87DED06C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652-4FAF-4C00-84BD-91AD34A3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C61-0980-47E3-AB31-BE6C2513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2BE-F0DA-424F-A8EE-A71B6799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B23-A016-40D3-9104-73E58818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0F5-040C-47D9-A4D8-332BDF41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FAAF-7083-4D4F-A714-45221768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219320" y="1600200"/>
            <a:ext cx="5925960" cy="9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5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631440" indent="-242640"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2" marL="971280" indent="-194040">
              <a:spcBef>
                <a:spcPts val="15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3" marL="1360080" indent="-194040">
              <a:spcBef>
                <a:spcPts val="15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4" marL="1748520" indent="-194040">
              <a:spcBef>
                <a:spcPts val="15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5" marL="1748520" indent="-194040">
              <a:spcBef>
                <a:spcPts val="15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6" marL="1748520" indent="-194040">
              <a:spcBef>
                <a:spcPts val="15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8C01-FFFF-4F18-B490-37103E0DB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5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631440" indent="-242640"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2" marL="971280" indent="-194040"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3" marL="1360080" indent="-194040">
              <a:spcBef>
                <a:spcPts val="15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4" marL="1748520" indent="-194040">
              <a:spcBef>
                <a:spcPts val="15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5" marL="1748520" indent="-194040">
              <a:spcBef>
                <a:spcPts val="15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6" marL="1748520" indent="-194040">
              <a:spcBef>
                <a:spcPts val="15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91404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6D89-5A25-4D5C-8681-F7FFC7BE8E8C}" type="slidenum"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oogle.com/" TargetMode="External"/><Relationship Id="rId2" Type="http://schemas.openxmlformats.org/officeDocument/2006/relationships/hyperlink" Target="http://altavista.com/" TargetMode="External"/><Relationship Id="rId3" Type="http://schemas.openxmlformats.org/officeDocument/2006/relationships/hyperlink" Target="http://ask.com/" TargetMode="External"/><Relationship Id="rId4" Type="http://schemas.openxmlformats.org/officeDocument/2006/relationships/hyperlink" Target="http://kids.quintura.com/" TargetMode="External"/><Relationship Id="rId5" Type="http://schemas.openxmlformats.org/officeDocument/2006/relationships/hyperlink" Target="http://www.quintura.com/" TargetMode="External"/><Relationship Id="rId6" Type="http://schemas.openxmlformats.org/officeDocument/2006/relationships/hyperlink" Target="http://www.kartoo.com/en_index.htm" TargetMode="External"/><Relationship Id="rId7" Type="http://schemas.openxmlformats.org/officeDocument/2006/relationships/image" Target="../media/image9.png"/><Relationship Id="rId8" Type="http://schemas.openxmlformats.org/officeDocument/2006/relationships/hyperlink" Target="http://dogpile.com/" TargetMode="External"/><Relationship Id="rId9" Type="http://schemas.openxmlformats.org/officeDocument/2006/relationships/image" Target="../media/image9.png"/><Relationship Id="rId10" Type="http://schemas.openxmlformats.org/officeDocument/2006/relationships/hyperlink" Target="http://clusty.com/" TargetMode="External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hyperlink" Target="http://people.coe.ilstu.edu/catoled/teaching/graduate/438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eb.archive.org/web/20040211112206/pubweb.northwestern.edu/~abutz/index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eb.archive.org/web/20040211082209/pubweb.northwestern.edu/~abutz/di/intro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bigredhair.com/robot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networksolutions.com/whois/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www.networksolutions.com/whois/results.jsp?domain=martinlutherking.org" TargetMode="External"/><Relationship Id="rId5" Type="http://schemas.openxmlformats.org/officeDocument/2006/relationships/image" Target="../media/image9.png"/><Relationship Id="rId6" Type="http://schemas.openxmlformats.org/officeDocument/2006/relationships/hyperlink" Target="http://www.whois.sc/" TargetMode="External"/><Relationship Id="rId7" Type="http://schemas.openxmlformats.org/officeDocument/2006/relationships/hyperlink" Target="http://www.whois.sc/" TargetMode="External"/><Relationship Id="rId8" Type="http://schemas.openxmlformats.org/officeDocument/2006/relationships/hyperlink" Target="http://www.stormfront.org/forum/" TargetMode="External"/><Relationship Id="rId9" Type="http://schemas.openxmlformats.org/officeDocument/2006/relationships/image" Target="../media/image9.png"/><Relationship Id="rId10" Type="http://schemas.openxmlformats.org/officeDocument/2006/relationships/hyperlink" Target="http://whois.domaintools.com/martinlutherking.org" TargetMode="External"/><Relationship Id="rId11" Type="http://schemas.openxmlformats.org/officeDocument/2006/relationships/hyperlink" Target="http://www.stormfront.org/forum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martinlutherking.org/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martinlutherking.org/library.html" TargetMode="External"/><Relationship Id="rId5" Type="http://schemas.openxmlformats.org/officeDocument/2006/relationships/image" Target="../media/image9.png"/><Relationship Id="rId6" Type="http://schemas.openxmlformats.org/officeDocument/2006/relationships/hyperlink" Target="http://martinlutherking.org/articles/rosaparks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archive.org/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web.archive.org/web/*/http://martinlutherking.org" TargetMode="External"/><Relationship Id="rId5" Type="http://schemas.openxmlformats.org/officeDocument/2006/relationships/image" Target="../media/image9.png"/><Relationship Id="rId6" Type="http://schemas.openxmlformats.org/officeDocument/2006/relationships/hyperlink" Target="http://web.archive.org/web/19990429203543/http://www.martinlutherking.org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hyperlink" Target="http://www.p21.org/images/stories/otherdocs/P21_Report.pdf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1600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Beyond the Basal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Day #2</a:t>
            </a:r>
            <a:br>
              <a:rPr sz="4000"/>
            </a:b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Literacy and Technology in the classroom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04640" y="3962160"/>
            <a:ext cx="6530760" cy="23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ami Dean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&amp; Dana Karraker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Question 3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4320" y="1980720"/>
            <a:ext cx="6248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rebuchet MS"/>
              </a:rPr>
              <a:t>List as many major search engines as you can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nswers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1120" y="1980720"/>
            <a:ext cx="30826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rebuchet MS"/>
                <a:hlinkClick r:id="rId1"/>
              </a:rPr>
              <a:t>Googl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rebuchet MS"/>
                <a:hlinkClick r:id="rId2"/>
              </a:rPr>
              <a:t>Alta Vista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rebuchet MS"/>
                <a:hlinkClick r:id="rId3"/>
              </a:rPr>
              <a:t>Ask.com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rebuchet MS"/>
                <a:hlinkClick r:id="rId4"/>
              </a:rPr>
              <a:t>Quintura for Kid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rebuchet MS"/>
                <a:hlinkClick r:id="rId5"/>
              </a:rPr>
              <a:t>Quintura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rebuchet MS"/>
                <a:hlinkClick r:id="rId6"/>
              </a:rPr>
              <a:t>Kartoo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Meta-Search Engines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rebuchet MS"/>
                <a:hlinkClick r:id="rId8"/>
              </a:rPr>
              <a:t>Dogpile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rebuchet MS"/>
                <a:hlinkClick r:id="rId10"/>
              </a:rPr>
              <a:t>Clusty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rebuchet MS"/>
              </a:rPr>
              <a:t>Databases provided by librarie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Question 4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82480" y="2286000"/>
            <a:ext cx="6172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How does a site get to the top of the search results in Google?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nswer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4840" y="2130480"/>
            <a:ext cx="74674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Getting to the top of Google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72776"/>
                </a:solidFill>
                <a:latin typeface="Arial"/>
              </a:rPr>
              <a:t>Google  Bombing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1204920" indent="-30816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Ultimate popularity contest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1204920" indent="-30816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I’ll put your link on my page if you’ll put my link on your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1204920" indent="-30816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Google Bombing story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Question 5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30200" y="1980720"/>
            <a:ext cx="6477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rebuchet MS"/>
              </a:rPr>
              <a:t>What clues in a web address might indicate you are on a personal website?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rebuchet MS"/>
              </a:rPr>
              <a:t>Why is knowing this important?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nswers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6120" y="1980720"/>
            <a:ext cx="67849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ebsite clue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1254240" indent="-285840"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~  or %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1254240" indent="-285840"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72776"/>
                </a:solidFill>
                <a:latin typeface="Trebuchet MS"/>
              </a:rPr>
              <a:t>users, members, people </a:t>
            </a: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in URL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rebuchet MS"/>
              </a:rPr>
              <a:t>Importance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1254240" indent="-285840"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Identifies the author and/or organizatio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Truncating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Being able to read and truncate a URL allows you to get the full picture of the site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Truncating exampl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n Examp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0720" y="1980720"/>
            <a:ext cx="82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Another view of the Holocaus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Is this a public or personal site?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More of Butz’s pages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3181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An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article</a:t>
            </a: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he published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Let’s truncate and see what we can find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olders, folders, and more folder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nother Examp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Ever heard of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Mechanical Marvels</a:t>
            </a: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hat happens if we truncate this site?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Moral of the story: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Determine the source site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PMI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1980720"/>
            <a:ext cx="77724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Question 6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53880" y="2286000"/>
            <a:ext cx="6629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How do you find the owner or publisher of a website?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hy is it important to know      these facts?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nswer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ebsite owner/publisher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2290680" indent="-361800"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ho I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2" marL="2862360" indent="-45720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MLK search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2290680" indent="-361800"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Who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Is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Sourc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2" marL="2862360" indent="-4572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MLK search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6094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The owner of this site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nswer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hy is it important?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2290680" indent="-361800"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MLK sit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2" marL="2862360" indent="-45720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Civil Rights Library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2" marL="2862360" indent="-4572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Rosa Park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2" marL="2862360" indent="0">
              <a:spcBef>
                <a:spcPts val="1199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72776"/>
                </a:solidFill>
                <a:latin typeface="Arial"/>
              </a:rPr>
              <a:t>Students have to be able to determine the validity and viewpoint of sites</a:t>
            </a:r>
            <a:endParaRPr b="0" lang="en-US" sz="3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Question 7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68280" y="2286000"/>
            <a:ext cx="4800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How do you find the history of any given website?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What do you do if the site is no longer available?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nswer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Website history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1031760" indent="-30780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Wayback Machine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archive.org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1031760" indent="-30780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Look at MLK.org in the Wayback Machine </a:t>
            </a: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result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2" marL="1603440" indent="-45720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What do you know now?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3" marL="2098800" indent="-381240">
              <a:spcBef>
                <a:spcPts val="901"/>
              </a:spcBef>
              <a:buClr>
                <a:srgbClr val="272776"/>
              </a:buClr>
              <a:buFont typeface="Helvetic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Up since 1999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3" marL="2098800" indent="-381240">
              <a:spcBef>
                <a:spcPts val="901"/>
              </a:spcBef>
              <a:buClr>
                <a:srgbClr val="272776"/>
              </a:buClr>
              <a:buFont typeface="Helvetic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Change in design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 to appeal to kid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6094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Remember the Holocaust example?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Remember Google Bombing?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Google Martin Luther King, Jr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Let’s look again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Google: MLK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Google Bombing story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My Ed Tech network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November Learning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http://www.novemberlearning.com/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Courses on Internet Literacy for $19.95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Break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ome back in 10 minute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What tools can we use?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980720"/>
            <a:ext cx="77724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Web 2.0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Participatory Culture &amp; the Power of the Network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Creatio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Connectio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ourse Tools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har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VoiceThread of the Day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Blog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Literacy and Literacy Instruction are changing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1001"/>
              </a:spcBef>
              <a:buClr>
                <a:srgbClr val="262673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The use of Web 2.0 tools affects both the learning and teaching environment. 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buClr>
                <a:srgbClr val="262673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Literacy instruction is no longer limited to paper and pencil, basals, and books.  Today's student in accustomed to being a producer of text, not just a passive consumer.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buClr>
                <a:srgbClr val="262673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Students have to "shut down" to come to school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buClr>
                <a:srgbClr val="262673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Web 2.0 tools provide authentic literacy learning experiences for students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buClr>
                <a:srgbClr val="262673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Students can have a world-wide audience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buClr>
                <a:srgbClr val="262673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Students can collaborate with students from anywhere in the world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buClr>
                <a:srgbClr val="262673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Web 2.0 tools are designed to be easy to use, produce, edit, create, and share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buClr>
                <a:srgbClr val="262673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Digital Literacy in Action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Response to reading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Digital literacy in “real” classroom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http://classblogmeister.com/blog.php?blogger_id=1337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Some tools to explor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Diigo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Gabcas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Vocarooo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Ning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Some more spaces…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Google Doc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18960" indent="-318960">
              <a:spcBef>
                <a:spcPts val="15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72776"/>
                </a:solidFill>
                <a:uFillTx/>
                <a:latin typeface="Arial"/>
              </a:rPr>
              <a:t>http://www.twiducate.com/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18960" indent="-318960">
              <a:spcBef>
                <a:spcPts val="15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72776"/>
                </a:solidFill>
                <a:uFillTx/>
                <a:latin typeface="Arial"/>
              </a:rPr>
              <a:t>http://teachweb2.wikispaces.com/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18960" indent="-318960">
              <a:spcBef>
                <a:spcPts val="15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72776"/>
                </a:solidFill>
                <a:uFillTx/>
                <a:latin typeface="Arial"/>
              </a:rPr>
              <a:t>http://webtools4u2use.wikispaces.com/Audio+%26+Podcasting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18960" indent="-318960">
              <a:spcBef>
                <a:spcPts val="15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http://k12onlineconference.org/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18960" indent="-318960">
              <a:spcBef>
                <a:spcPts val="15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18960" indent="-318960">
              <a:spcBef>
                <a:spcPts val="15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Putting it all together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Inquiry topic/tex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Matching Inquiry topic to the too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Baby Step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ontinuum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SzPct val="121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72776"/>
                </a:solidFill>
                <a:latin typeface="Arial"/>
              </a:rPr>
              <a:t>Fill out the continuum based on these factors:</a:t>
            </a:r>
            <a:endParaRPr b="0" lang="en-US" sz="27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Kids need to use technology in meaningful way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Technology is used to deepen instruction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21</a:t>
            </a:r>
            <a:r>
              <a:rPr b="0" lang="en-US" sz="2400" spc="-1" strike="noStrike" baseline="30000">
                <a:solidFill>
                  <a:srgbClr val="272776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 century literacie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Knowledge about online tool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Access to online tool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http://www.p21.org/images/stories/otherdocs/P21_Report.pdf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Web literacy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hat is web literacy?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hy is it important?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onnection to critical thinking-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Question 1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25560" y="2286000"/>
            <a:ext cx="5486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hat is a URL?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nswer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URL - Uniform Resource Locator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grpSp>
        <p:nvGrpSpPr>
          <p:cNvPr id="106" name="Group 9"/>
          <p:cNvGrpSpPr/>
          <p:nvPr/>
        </p:nvGrpSpPr>
        <p:grpSpPr>
          <a:xfrm>
            <a:off x="971640" y="2514600"/>
            <a:ext cx="7138800" cy="4014720"/>
            <a:chOff x="971640" y="2514600"/>
            <a:chExt cx="7138800" cy="4014720"/>
          </a:xfrm>
        </p:grpSpPr>
        <p:sp>
          <p:nvSpPr>
            <p:cNvPr id="107" name="Text Box 5"/>
            <p:cNvSpPr/>
            <p:nvPr/>
          </p:nvSpPr>
          <p:spPr>
            <a:xfrm>
              <a:off x="971640" y="6300720"/>
              <a:ext cx="331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72776"/>
                  </a:solidFill>
                  <a:latin typeface="Trebuchet MS"/>
                </a:rPr>
                <a:t>Source: www.novemberlearning.com</a:t>
              </a:r>
              <a:endParaRPr b="0" lang="en-US" sz="1200" spc="-1" strike="noStrike">
                <a:solidFill>
                  <a:srgbClr val="272776"/>
                </a:solidFill>
                <a:latin typeface="Arial"/>
              </a:endParaRPr>
            </a:p>
          </p:txBody>
        </p:sp>
        <p:pic>
          <p:nvPicPr>
            <p:cNvPr id="108" name="Picture 8" descr="URL"/>
            <p:cNvPicPr/>
            <p:nvPr/>
          </p:nvPicPr>
          <p:blipFill>
            <a:blip r:embed="rId1"/>
            <a:stretch/>
          </p:blipFill>
          <p:spPr>
            <a:xfrm>
              <a:off x="1033560" y="2514600"/>
              <a:ext cx="7076880" cy="384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Question 2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4840" y="1980720"/>
            <a:ext cx="74674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rebuchet MS"/>
              </a:rPr>
              <a:t>Identify these extensions and what they represent: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" name="Rectangle 25"/>
          <p:cNvSpPr/>
          <p:nvPr/>
        </p:nvSpPr>
        <p:spPr>
          <a:xfrm>
            <a:off x="1143000" y="3054240"/>
            <a:ext cx="3276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org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k12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gov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com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edu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" name="Rectangle 26"/>
          <p:cNvSpPr/>
          <p:nvPr/>
        </p:nvSpPr>
        <p:spPr>
          <a:xfrm>
            <a:off x="5181480" y="3054240"/>
            <a:ext cx="33530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ac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net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mil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jp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nswers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3276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org - organizatio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k12 - school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gov - government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com - commerc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edu - colleg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81480" y="2895480"/>
            <a:ext cx="335304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ac - academic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net - busines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mil - U. S. military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jp - Japa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3036960" y="2057400"/>
            <a:ext cx="30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Extension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21:22:55Z</dcterms:created>
  <dc:creator>Cheri Toledo</dc:creator>
  <dc:description/>
  <dc:language>en-US</dc:language>
  <cp:lastModifiedBy>Tami</cp:lastModifiedBy>
  <dcterms:modified xsi:type="dcterms:W3CDTF">2010-06-17T12:04:22Z</dcterms:modified>
  <cp:revision>51</cp:revision>
  <dc:subject/>
  <dc:title>PowerPoint Presentation</dc:title>
</cp:coreProperties>
</file>